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E1D-C5CA-4873-BC03-3E2F501D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DA4-7207-4954-94C8-6E8CFD1B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FD3-1390-4C9B-A48A-DC20F28D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562-A9FB-403D-91BC-1A47F720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01607-5EC1-4CF0-AE04-7F66924F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08454-7951-4E0C-93C2-6C93AA72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72FB9-32DE-4DA7-ACD0-1780C3A9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567D7-6695-4176-803B-DFEC1118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AB9E6-C0B3-4EFA-BFF3-269EE9A7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EAEAB-63A3-4522-A038-478F5D11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1BDE8-BC56-4F8E-B3B7-16048C61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6AF-D30C-4AE3-880E-00C7FC72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0E489-3595-4CB7-B187-9EC454D8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6C9BA-68C6-4212-BF50-0766A508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CA427-9E34-4A71-B6E3-BBF7B270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9D8E9-1B97-4336-AF50-0449CC4D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01FEF-808C-4253-9B35-614EF19A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13A0-582C-40F5-B9CF-A308B30F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106F-233C-4393-A03F-BE1FE8F2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6387-4312-45D0-AFCB-698C4A5F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8A2A-F7C0-4C40-A798-EAFCC6C1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B5CBB-130D-4CAC-8F3B-7EAE36D1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AEE-30CE-46FB-93F6-871D4234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59BF0-BA4A-489B-B347-B9B40081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0FF6D-9803-4BFB-B882-FAADDED5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2CBE2-E37C-4DBE-862F-4F319E48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833ED-6B6A-4BF7-ADFE-BA4E85BE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3851-8A5C-43CD-B932-78C074C5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6CDA2-A749-4273-9E2F-AA21C66E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020D-BCE7-42DB-BD7A-DC35FE52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7CC3DC-35BD-4AFA-AB26-C4EB2663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2D1A1B-62F8-4E36-B6CD-815DE69F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13D76-87D1-4BC4-B868-B2D5E68A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863-D4C5-45D1-801D-5031E69D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F174F9-D349-4A4C-9FD2-F975CB05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3495C6-B7E6-446E-9F61-01B8E649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FB749A-4EDE-4C52-8ACF-7A16C3B4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954D89-66E3-458A-AF3E-5DBD2CD0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6D9398-B7AC-4A1A-878A-9C4D3AF2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CC84E9-EA02-48F9-B1AD-A73ED696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107C0E-80F0-4D84-810E-A1384F88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E38FCF-28C2-41D3-B752-EC33757C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E0D539-6199-42C8-A358-1CC2E803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71AC6-E766-48DA-AF80-57FEAE3C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C21-15BB-4B18-8F2E-D175F758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47FBD-9264-45C3-A23F-7D5B96CD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FF643-D66A-450D-88F1-51D243A7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13938-B8A6-4272-B9D2-54DAE518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04956-11DE-4236-BEE5-9DFF28C1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B2B41-04F2-4F61-AE9E-2A82D59D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41634-33DC-4B96-B340-BAB22799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EB644-0338-499F-A7D6-8D160681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DE674-E89A-4252-A4E7-6BDDC207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40F0A-F136-4BA6-ABA7-A877C68C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AC343-B5B8-4E00-8456-379FD3D7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6CA-9EDF-4B0A-9F57-210EF01E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1F988-2139-4C17-95E8-5873FEE3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1DF1C-1CC1-4FA7-B38D-E99D819C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C1AE94-1228-45D1-AA18-8A727926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74EFA-0A63-455D-9BF6-BB56EA87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5BF2D-C337-4785-BE55-D792D4DF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7E735-8CC9-4168-9521-4BC93761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E7B13-9B87-4305-AA7D-FB8C9FF4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EF0C37-4212-4888-B231-D4AE4051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70A69-7514-416B-A000-CAAA196E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1BE0C0-4BFC-4C3A-9717-7F615F1B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A5E-A1FA-4981-98FE-D9FFB3F1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1CBD7-8AF2-4029-AA94-B5FAF972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EE64D9-58B6-4755-9117-FC4E4505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471B8-6CD8-4CA3-A8AE-16828E11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330-9685-4A3F-9B5A-7FA763D2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306-7F3E-4975-8A82-01E5C952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311C-D1DE-46AE-BC83-027FE3641B4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8ECB-EED4-4789-BD83-5AAD488FFBC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2388-051C-4E49-BA19-98F9E5B20D3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4030-C328-4B2B-BF90-1CE01024DDF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5019-8135-417E-AE0D-4E1B980E725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8BC1-9E74-4C13-8DF7-FA2BDD1650F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fac9"/>
                </a:solidFill>
                <a:latin typeface="Constantia"/>
              </a:rPr>
              <a:t>Warm Up – Name the 5 different types of fossils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rain po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brainpop.com/science/earthsystem/geologictime/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cientists use rocks and fossils to try to date events, or determine when in history events took place on eart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cientists use 3 techniques of dating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bsolute ag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adioactive dating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lative ag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lls the actual age of rock or fossil or how long ago an event occurr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3605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s means of measuring the age of a material by comparing the amount of radioactive form of an element in a rock or fossil with the amount of its decay product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4919760" y="2185920"/>
            <a:ext cx="35146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en absolute age is not possible scientists use relative ag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lative age describes the age of an object or event in comparison to another object or event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determines which events occurred earlier or later then others without giving a definite dat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4648320" y="2606760"/>
            <a:ext cx="40590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rain po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brainpop.com/science/earthsystem/geologictime/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7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tes that in undisturbed sedimentary rock layers, older layers of rock lie beneath younger rock lay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lder sediments must be laid down first before the younger ones pile on top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5500800" y="3286080"/>
            <a:ext cx="2352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late movements can disturb rock layers by folding or turning them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ometimes a layer can be missing one area of rock bed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missing layer is called an unconformity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kes it more difficult to understand how earth changed at a specific tim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4689360" y="1981080"/>
            <a:ext cx="44546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564400" cy="1231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ssils can be used to determine the geological history, or  age, of the rock that contains the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ounger fossils may be found where the original boundary was an ocean/contin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lder fossils are found in where plates collided, formed mountains, and now eroding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2"/>
          <a:stretch/>
        </p:blipFill>
        <p:spPr>
          <a:xfrm>
            <a:off x="4648320" y="2384280"/>
            <a:ext cx="4059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ssil must be widely distributed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present a type of organism that existed only briefl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seful because they tell the relative ages of the rock layers in which they occu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657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imeline that organizes the events in Earths histor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arth is about 4.7 billion years ol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re complex organism such as land plants and fish evolved only with in the last 500 million year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4782960" y="1905120"/>
            <a:ext cx="3791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cess which species disappea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cur naturally over ti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st occur following a sudden, drastic change in the environmen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ecies cannot adapt quickly enough to survi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530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roughout history numerous species of organism have gone extinc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me scientists estimate that 99.9%  of all species have ever lived on earth is extinc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verage species lives for 2 to 10 million yea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4343400" y="2514600"/>
            <a:ext cx="4419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crease in tem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crease or decrease in rainfal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olcanic erup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looding or drough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hifting land or se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change in food suppl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new predator or disea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ccurs when large numbers of species die out in a short amount of tim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ss extinctions have occurred many times in Earths histor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Each event has wiped out more then 50% of speci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ave evidence in rock layers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bundant fossils suddenly disappear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4773600" y="241452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rain Po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brainpop.com/science/ourfragileenvironment/extinction/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g 330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rocedure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1 make a venn diagra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2 make a lis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nalyze and Conclud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1-8 answer in complete sentenc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urn in procedure and analyze and conclud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umans evolved only about 110, 000 years ag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humans were squeezed into a single day, humans would not evolve until he last few second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290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brainpop.com/science/ecologyandbehavior/humanevolution/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geological time scale is like a calendar extending from earths formation to the presen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cale is divided into eons, eras, periods, and epoch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648320" y="2124000"/>
            <a:ext cx="40590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largest group: divided by the Cambrian boundary (about 550 million years ago) when the variety of life forms explodes: billions of years lo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ss extinctions mark the boundaries between the era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undreds of millions of years lo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ocks of time when a unique rock series was laid dow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ns of millions of years lo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visions of the most recent perio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ral millions years lo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7:44:45Z</dcterms:created>
  <dc:creator>mswofford</dc:creator>
  <dc:description/>
  <dc:language>en-US</dc:language>
  <cp:lastModifiedBy>jcameron</cp:lastModifiedBy>
  <dcterms:modified xsi:type="dcterms:W3CDTF">2012-10-31T14:38:23Z</dcterms:modified>
  <cp:revision>55</cp:revision>
  <dc:subject/>
  <dc:title>Earths History: Rocks, Fossils, and Ice Cores</dc:title>
</cp:coreProperties>
</file>